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5A2E-719D-4B8F-BD09-EEFE84C794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67F0-62EE-4418-8557-BE66933B03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13A6-52BE-483C-A7BC-89C164B545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613B-9C90-4B49-AF79-B1949A8D38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3377-5291-4F42-8962-44C59E20B1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88B3-E860-4236-A8C8-7FCB359C8C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8993-7B8C-48BC-8B0C-13409654AF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AECA-17B4-4BBC-888D-B6AA562C2D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1E1-3AD6-40A2-A849-7A874C54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1580-01CF-49A3-9276-DF8662D6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8B06-C944-46C5-81A4-A039AC35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42DC-60F0-4928-8F0B-9DFBCEAD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F903-2155-488D-9985-A3EECFB6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30E4-288F-4ABD-A344-61609EF6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5C82-EC2B-4D6E-A42B-F1F0BDE4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ECEB-50BA-409A-9048-40F231F9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A0BE-F21B-4EB6-BE90-1348EA2F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0629-1332-4DE0-8529-CD33BEE4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9316-41FE-4197-9E31-E96B0172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360-521D-4A77-A21A-604F40AD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6E12-1E01-4E58-BB8C-CA237724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A9A7-EEB9-4909-BE97-E0A3A331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C323-F602-45E4-AAB5-70860D18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5C49-D0BE-4D86-AE4A-4DEE7BA7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DC39-F7D5-4D7F-B6D6-035A54F8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1314-0176-4AEF-930D-C2558081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55A-7EFB-4BEC-9133-AE2F7AE3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7F7-1A5D-4987-84D4-6C02D464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898-5CEE-4DC3-98B2-03F833F0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69C1-CE37-4AF2-BD8B-D279EC79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462-6E86-4299-B625-CDD0B760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8C21-CF29-4B8D-86A1-725B7E8B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1852-5764-4CA1-8A23-8B3C91056B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3235-75BE-46AF-9CEF-C20C062AEE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Язык программирования 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Python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Алфавит, переменные, типы данных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пишите программу, выводящую на экран три стоки: ваше имя, дату рождения, класс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cr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2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Меня зовут 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Я родился 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Я учусь в 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11280" y="692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еобразуйте строки в  числа: “36768”,”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”,”12,56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еобразуйте дробные числа в целые 34, 78;                                                                 9, 23 ;                                                                 101, 29754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4360" y="333360"/>
            <a:ext cx="7696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ычислите площадь комнаты шириной 8,5 м и длинной 12 м, используя переменные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lina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irina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losad.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пишите программу перевода температуры из шкалы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Фаренгейта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в шкалу Цельсия по формуле C = 5 / 9 * (F - 32). Исходной температурой считать температуру воздуха на улице.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mper.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33336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 интерактивном режиме вычислите количество минут в неделе. Результат сохраните в переменной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inuti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писать программу вычисления времени в пути, если вы проехали 200 км со скоростью 80 км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ч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Vremay_pyti.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Замените в программе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mper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y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формулу, что вы получите в результат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float(5 / 9 * (F – 32)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5 / 9 * float(F– 32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696440" cy="13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Язык программирования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Python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имеет собственный алфавит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, 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состоящий из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Латинских букв(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 т.д.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Цифр (от 0 до 9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пециальных знаков (+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-, (, [, {,;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 т.д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лужебных слов (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int, if, input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 т.д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еременная (имя переменной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и написании программы для переменной величины вводятся обозначения (также как и в математике). Такое обозначение называют именем величин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336666"/>
                </a:solidFill>
                <a:latin typeface="Arial"/>
              </a:rPr>
              <a:t>Имя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– это слово из букв, цифр и знаков подчеркивания, начинающихся с буквы. Имя также называют переменной или именем переменной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ример: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           </a:t>
            </a:r>
            <a:r>
              <a:rPr b="0" lang="ru-RU" sz="3300" spc="-1" strike="noStrike">
                <a:solidFill>
                  <a:srgbClr val="ff0000"/>
                </a:solidFill>
                <a:latin typeface="Arial Black"/>
              </a:rPr>
              <a:t>Нельзя!!!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a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y_program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koroSt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aaaaaaa_bbbbbbbbb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to3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Super-star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day of week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7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68360" y="50133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КАЧЕСТВЕ ИМЕНИ ПЕРЕМЕННОЙ НЕЛЬЗЯ ИСПОЛЬЗОВАТЬ СЛУЖЕБНЫЕ СЛОВА!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, if, inpu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ип переменно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ое имя в язы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тветствует некоторой ячейке памяти, куда записываются значения переменной величины.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язы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динамическая типизация, т.е. во  время присваивания переменной какого-либо значения интерпретатор автоматически относит переменную к одному из типов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9608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ипы данных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1125360"/>
          <a:ext cx="7696440" cy="5048280"/>
        </p:xfrm>
        <a:graphic>
          <a:graphicData uri="http://schemas.openxmlformats.org/drawingml/2006/table">
            <a:tbl>
              <a:tblPr/>
              <a:tblGrid>
                <a:gridCol w="2657520"/>
                <a:gridCol w="2473560"/>
                <a:gridCol w="256536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данны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на яз. </a:t>
                      </a: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o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ые числ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 -1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е числ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a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 -2</a:t>
                      </a:r>
                      <a:r>
                        <a:rPr b="1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ьны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а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6”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ивы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2, 654, 75]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атематические операции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207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ля работа с числами используются 6 математических операций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ждение остатка от деления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%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 3 =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деление нацело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11 div 3 = 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Изменение типа данных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ля преобразования типов данных предназначены следующие функции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() –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еобразует строку или число с с плавающей точкой в цело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str()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преобразует переданный ей аргумент в строку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float()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- в дробное числ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4360" y="11970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жение         Результат вы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 (“56”)                               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 (4.03)                                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 (“comp 486”)                 O ш и б к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tr (56)                                   '56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tr (4.03)                                '4.03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loat (56)                                  5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loat (“56”)                               5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1:19:36Z</dcterms:created>
  <dc:creator>Натуля</dc:creator>
  <dc:description/>
  <dc:language>en-US</dc:language>
  <cp:lastModifiedBy>Наталья</cp:lastModifiedBy>
  <dcterms:modified xsi:type="dcterms:W3CDTF">2011-03-08T12:16:35Z</dcterms:modified>
  <cp:revision>15</cp:revision>
  <dc:subject/>
  <dc:title>Язык программирования Pascal</dc:title>
</cp:coreProperties>
</file>