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6C8C-EB55-41EA-83AF-AF02D91740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ADEB-FC66-4BD2-834E-590E00C6A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4621-252E-4D25-840D-FCFBE5295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F17F-49E3-4E46-ADAF-515E996D6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319D-0004-4DAE-B6DB-E451CE712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5268-FF53-41CE-A3BE-274F885AA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6A7-1D64-4898-B6C7-3D9C4AB3D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02A5-F562-470E-B654-9FECE37C9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C7C-9766-4AFB-969E-1805D782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120-07A6-4D7E-BCC7-308C3927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00B-E6D7-42BE-9571-66D334ED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A1C-EB60-4DC0-B465-8715555E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628C-46AF-4068-B453-569A68C6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0B8-FC61-4F64-ADCB-C20C07F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F46E-4B93-43C8-83C5-4D17908B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F40-2488-4A7B-A752-20F6273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E67A-5506-46C9-9AB6-385140E5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A306-4CC0-4055-B911-AA918873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D511-472C-4E23-B0C7-14855C10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010-3111-4594-8C84-74CAF15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65CD-2656-4D1B-8C0E-F5F0D41A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9CDC-0687-47FD-ACAE-ED1A9CF6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84A-8922-4CA1-B3D6-F80E1573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FCA1-E4AF-43B8-B2B4-8B362195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E916-FBB6-4330-8CEE-8557D3CC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6A6-FCA3-4804-80DF-27B6730E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D27-48F8-4C01-8580-E817545D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B7E-BEC2-4F04-9128-C1A6510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C95-BCD7-4273-91D5-C2F2BC61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49F-E626-46BC-8001-A322AD3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55E-F096-420C-99CA-0B0BABD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299-E17D-4ED0-8EE6-F3890C3D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C7AC-7E78-4BAB-B5CC-1E67C1AD7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90FE-E9C0-457A-BD05-A1DDB9C116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Pytho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фавит, переменные, типы данны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три стоки: ваше имя, дату рождения, клас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ня зовут 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родился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учусь в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692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строки в  числа: “36768”,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”,”12,56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дробные числа в целые 34, 78;                                                                 9, 23 ;                                                                 101, 29754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333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ычислите площадь комнаты шириной 8,5 м и длинной 12 м, используя переменные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l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ir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losad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 перевода температуры из шкалы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Фаренгейт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 шкалу Цельсия по формуле C = 5 / 9 * (F - 32). Исходной температурой считать температуру воздуха на улице.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33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интерактивном режиме вычислите количество минут в неделе. Результат сохраните в переменной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ut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времени в пути, если вы проехали 200 км со скоростью 80 км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remay_pyti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мените в программ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рмулу, что вы получите в результа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float(5 / 9 * (F – 32)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5 / 9 * float(F– 3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ython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имеет собственный алфавит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, 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состоящий из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атинских букв(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 (от 0 до 9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ециальных знаков (+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-, (, [, {,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ужебных слов 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nt, if, inpu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еменная (имя переменной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 написании программы для переменной величины вводятся обозначения (также как и в математике). Такое обозначение называют именем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336666"/>
                </a:solidFill>
                <a:latin typeface="Arial"/>
              </a:rPr>
              <a:t>Им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это слово из букв, цифр и знаков подчеркивания, начинающихся с буквы. Имя также называют переменной или именем переменно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имер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Нельзя!!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_program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oroS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aaaaaaa_bbbbbbbbb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3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uper-star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day of week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7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ЧЕСТВЕ ИМЕНИ ПЕРЕМЕННОЙ НЕЛЬЗЯ ИСПОЛЬЗОВАТЬ СЛУЖЕБНЫЕ СЛОВА!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if, inpu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 переменн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имя 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некоторой ячейке памяти, куда записываются значения переменной величины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инамическая типизация, т.е. во  время присваивания переменной какого-либо значения интерпретатор автоматически относит переменную к одному из типов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данн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125360"/>
          <a:ext cx="7696440" cy="5048280"/>
        </p:xfrm>
        <a:graphic>
          <a:graphicData uri="http://schemas.openxmlformats.org/drawingml/2006/table">
            <a:tbl>
              <a:tblPr/>
              <a:tblGrid>
                <a:gridCol w="2657520"/>
                <a:gridCol w="2473560"/>
                <a:gridCol w="2565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данны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на яз.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 -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-2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а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6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, 654, 75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атематические операц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0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бота с числами используются 6 математических операц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е остатка от дел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3 =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деление нацело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1 div 3 =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зменение типа данных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преобразования типов данных предназначены следующие функци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(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ет строку или число с с плавающей точкой в цело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str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преобразует переданный ей аргумент в строк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loat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- в дробное чис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4360" y="1197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        Результа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56”)                               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4.03)                                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comp 486”)                 O ш и б к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56)                                   '56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4.03)                                '4.03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56)   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“56”)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19:36Z</dcterms:created>
  <dc:creator>Натуля</dc:creator>
  <dc:description/>
  <dc:language>en-US</dc:language>
  <cp:lastModifiedBy>Наталья</cp:lastModifiedBy>
  <dcterms:modified xsi:type="dcterms:W3CDTF">2011-03-08T12:16:35Z</dcterms:modified>
  <cp:revision>15</cp:revision>
  <dc:subject/>
  <dc:title>Язык программирования Pascal</dc:title>
</cp:coreProperties>
</file>