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5260-4428-4D98-B42E-1D797CB09C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CE8A-32A4-4371-9F8A-1DB12F19B8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E25B-4D2F-4BD7-8E67-1C096F7055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72DE-2B36-4722-8F67-C757C7C9C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19ED-EA33-46D7-AB6A-AD6B992E26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84D4-3D3D-4DC2-B0FE-121D059937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9381-5198-4BB6-8B6A-1991B6E880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75F9-39D1-43BB-94FF-8FDA7463B7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0955-B7D8-461D-8141-7BDAE39E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B66-921A-4DA4-A21A-E0BADCB4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C35-3341-42D2-BF30-C715CB5B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FEE-E611-498B-B3B0-8CEB3D0D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656D-6553-43A6-867D-A5E819FC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8365-9569-4DDD-8C85-11F53000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AA6B-672A-4434-B269-C3AAD952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A3AA-9A9F-45C8-8FAE-44044D4C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2B99-3007-4A96-9F24-DA093D07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C41A-CE13-4254-925B-5018BAC6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7E6E-EC17-4E19-B3B9-8E5E31BD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4BF4-87E5-4F51-BEC4-F72E0157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8024-7CB7-492A-BEF2-46989F54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4F33-4A37-4860-939D-1508C6DE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CF84-ADF7-4D74-B58D-D3F0AAD5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78CF-977D-46DA-AD72-49712F98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DF84-7798-4693-988C-5C3F1A06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DC4-92F4-4C75-B62B-1CBE1716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CC18-2839-4C2F-B538-DA569B47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50A-F231-4A6A-BCC3-0A56BE68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7B5-E966-4E9D-BC10-E75FD49E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116-A237-4C82-9598-B19DDFED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DD3B-951D-4451-8389-719794A2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070B-416A-4D85-BC6D-802F45BA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1A14-E9E0-41CE-9214-573F4C8542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46DD-B640-4C19-B86D-9534636391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Язык программирования 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Python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Алфавит, переменные, типы данных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пишите программу, выводящую на экран три стоки: ваше имя, дату рождения, класс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cr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2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Меня зовут 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Я родился 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Я учусь в 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11280" y="692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еобразуйте строки в  числа: “36768”,”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”,”12,56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еобразуйте дробные числа в целые 34, 78;                                                                 9, 23 ;                                                                 101, 29754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4360" y="333360"/>
            <a:ext cx="7696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ычислите площадь комнаты шириной 8,5 м и длинной 12 м, используя переменные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lina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irina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losad.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пишите программу перевода температуры из шкалы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Фаренгейта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в шкалу Цельсия по формуле C = 5 / 9 * (F - 32). Исходной температурой считать температуру воздуха на улице.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mper.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33336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 интерактивном режиме вычислите количество минут в неделе. Результат сохраните в переменной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inuti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писать программу вычисления времени в пути, если вы проехали 200 км со скоростью 80 км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ч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Vremay_pyti.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Замените в программе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mper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y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формулу, что вы получите в результат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float(5 / 9 * (F – 32)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5 / 9 * float(F– 32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696440" cy="13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Язык программирования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Python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имеет собственный алфавит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, 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состоящий из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Латинских букв(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т.д.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Цифр (от 0 до 9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пециальных знаков (+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-, (, [, {,;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т.д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лужебных слов (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int, if, input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т.д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еременная (имя переменной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и написании программы для переменной величины вводятся обозначения (также как и в математике). Такое обозначение называют именем величин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336666"/>
                </a:solidFill>
                <a:latin typeface="Arial"/>
              </a:rPr>
              <a:t>Имя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– это слово из букв, цифр и знаков подчеркивания, начинающихся с буквы. Имя также называют переменной или именем переменной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ример: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           </a:t>
            </a:r>
            <a:r>
              <a:rPr b="0" lang="ru-RU" sz="3300" spc="-1" strike="noStrike">
                <a:solidFill>
                  <a:srgbClr val="ff0000"/>
                </a:solidFill>
                <a:latin typeface="Arial Black"/>
              </a:rPr>
              <a:t>Нельзя!!!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a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y_program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koroSt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aaaaaaa_bbbbbbbbb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to3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Super-star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day of week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7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68360" y="50133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КАЧЕСТВЕ ИМЕНИ ПЕРЕМЕННОЙ НЕЛЬЗЯ ИСПОЛЬЗОВАТЬ СЛУЖЕБНЫЕ СЛОВА!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, if, inpu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ип переменно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ое имя в язы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ветствует некоторой ячейке памяти, куда записываются значения переменной величины.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язы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динамическая типизация, т.е. во  время присваивания переменной какого-либо значения интерпретатор автоматически относит переменную к одному из типов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9608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ипы данных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1125360"/>
          <a:ext cx="7696440" cy="5048280"/>
        </p:xfrm>
        <a:graphic>
          <a:graphicData uri="http://schemas.openxmlformats.org/drawingml/2006/table">
            <a:tbl>
              <a:tblPr/>
              <a:tblGrid>
                <a:gridCol w="2657520"/>
                <a:gridCol w="2473560"/>
                <a:gridCol w="256536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данны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на яз. </a:t>
                      </a: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o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е числ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 -1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е числ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a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 -2</a:t>
                      </a:r>
                      <a:r>
                        <a:rPr b="1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ьны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а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6”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ивы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2, 654, 75]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атематические операции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207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ля работа с числами используются 6 математических операций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ждение остатка от деления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 3 =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деление нацело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11 div 3 = 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Изменение типа данных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ля преобразования типов данных предназначены следующие функции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() –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еобразует строку или число с с плавающей точкой в цело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str()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преобразует переданный ей аргумент в строку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float()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- в дробное числ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4360" y="11970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жение         Результат вы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 (“56”)                               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 (4.03)                                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 (“comp 486”)                 O ш и б к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tr (56)                                   '56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tr (4.03)                                '4.03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loat (56)                                  5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loat (“56”)                               5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1:19:36Z</dcterms:created>
  <dc:creator>Натуля</dc:creator>
  <dc:description/>
  <dc:language>en-US</dc:language>
  <cp:lastModifiedBy>Наталья</cp:lastModifiedBy>
  <dcterms:modified xsi:type="dcterms:W3CDTF">2011-03-08T12:16:35Z</dcterms:modified>
  <cp:revision>15</cp:revision>
  <dc:subject/>
  <dc:title>Язык программирования Pascal</dc:title>
</cp:coreProperties>
</file>